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2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9FC6-912B-4ADD-9583-24E68D08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58B3-FD13-462F-8B14-6B30B9BA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8F99-AB67-473F-8298-63C67DB9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F7AD-9B97-484E-AE97-120607A0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3D5D-8582-4D75-9CAC-2F15980E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B872-7DF7-4A80-A208-9ACF5832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6725-4C2A-4A51-9438-40532328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80CD-5D6F-4BB0-87F6-E482F0E3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5709-D0E0-45CF-8E38-D6E45634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D1BC-C383-4447-ADE1-229A134E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781-47C9-4983-83A8-B4611D65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D67-2B50-4FE7-BD77-90D8CFD8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A481-5913-497D-B4D1-BE5FCD059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3.gi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3.gif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gi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gi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gi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4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jpe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11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5.jpeg"/><Relationship Id="rId14" Type="http://schemas.openxmlformats.org/officeDocument/2006/relationships/image" Target="../media/image7.png"/><Relationship Id="rId15" Type="http://schemas.openxmlformats.org/officeDocument/2006/relationships/image" Target="../media/image13.png"/><Relationship Id="rId16" Type="http://schemas.openxmlformats.org/officeDocument/2006/relationships/image" Target="../media/image19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24000" y="2133720"/>
            <a:ext cx="5184720" cy="33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isc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isplace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140360" y="0"/>
            <a:ext cx="1341360" cy="15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4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900" fill="hold">
                                          <p:stCondLst>
                                            <p:cond delay="21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4920" y="6094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04000" y="137160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21320" y="1371600"/>
            <a:ext cx="3826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1371600"/>
            <a:ext cx="177300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nesium sulph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34800" y="1371600"/>
            <a:ext cx="4313160" cy="700200"/>
            <a:chOff x="334800" y="1371600"/>
            <a:chExt cx="4313160" cy="700200"/>
          </a:xfrm>
        </p:grpSpPr>
        <p:sp>
          <p:nvSpPr>
            <p:cNvPr id="172" name=""/>
            <p:cNvSpPr/>
            <p:nvPr/>
          </p:nvSpPr>
          <p:spPr>
            <a:xfrm>
              <a:off x="4219560" y="137160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334800" y="1371600"/>
              <a:ext cx="3884760" cy="700200"/>
              <a:chOff x="334800" y="1371600"/>
              <a:chExt cx="3884760" cy="700200"/>
            </a:xfrm>
          </p:grpSpPr>
          <p:sp>
            <p:nvSpPr>
              <p:cNvPr id="174" name=""/>
              <p:cNvSpPr/>
              <p:nvPr/>
            </p:nvSpPr>
            <p:spPr>
              <a:xfrm>
                <a:off x="2447640" y="137160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copper sulphat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036520" y="137160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4800" y="137160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magnesium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77" name=""/>
          <p:cNvGraphicFramePr/>
          <p:nvPr/>
        </p:nvGraphicFramePr>
        <p:xfrm>
          <a:off x="258840" y="2209680"/>
          <a:ext cx="8115120" cy="42516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400"/>
                <a:gridCol w="457200"/>
                <a:gridCol w="1675080"/>
                <a:gridCol w="38232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6834240" y="289548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n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51560" y="2895480"/>
            <a:ext cx="3826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78200" y="2895480"/>
            <a:ext cx="177336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nesium sulph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65040" y="2895480"/>
            <a:ext cx="4313160" cy="700200"/>
            <a:chOff x="365040" y="2895480"/>
            <a:chExt cx="4313160" cy="700200"/>
          </a:xfrm>
        </p:grpSpPr>
        <p:sp>
          <p:nvSpPr>
            <p:cNvPr id="182" name=""/>
            <p:cNvSpPr/>
            <p:nvPr/>
          </p:nvSpPr>
          <p:spPr>
            <a:xfrm>
              <a:off x="4249800" y="289548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65040" y="2895480"/>
              <a:ext cx="3884760" cy="700200"/>
              <a:chOff x="365040" y="2895480"/>
              <a:chExt cx="3884760" cy="700200"/>
            </a:xfrm>
          </p:grpSpPr>
          <p:sp>
            <p:nvSpPr>
              <p:cNvPr id="184" name=""/>
              <p:cNvSpPr/>
              <p:nvPr/>
            </p:nvSpPr>
            <p:spPr>
              <a:xfrm>
                <a:off x="2477880" y="289548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5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zinc sulphat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066760" y="289548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5040" y="289548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magnesium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87" name=""/>
          <p:cNvGraphicFramePr/>
          <p:nvPr/>
        </p:nvGraphicFramePr>
        <p:xfrm>
          <a:off x="289080" y="3733920"/>
          <a:ext cx="8115120" cy="42516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400"/>
                <a:gridCol w="457200"/>
                <a:gridCol w="1674720"/>
                <a:gridCol w="38268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6834240" y="457200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51560" y="4572000"/>
            <a:ext cx="3826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78200" y="4572000"/>
            <a:ext cx="177336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nesium sulph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65040" y="4572000"/>
            <a:ext cx="4313160" cy="700200"/>
            <a:chOff x="365040" y="4572000"/>
            <a:chExt cx="4313160" cy="700200"/>
          </a:xfrm>
        </p:grpSpPr>
        <p:sp>
          <p:nvSpPr>
            <p:cNvPr id="192" name=""/>
            <p:cNvSpPr/>
            <p:nvPr/>
          </p:nvSpPr>
          <p:spPr>
            <a:xfrm>
              <a:off x="4249800" y="457200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365040" y="4572000"/>
              <a:ext cx="3884760" cy="700200"/>
              <a:chOff x="365040" y="4572000"/>
              <a:chExt cx="3884760" cy="700200"/>
            </a:xfrm>
          </p:grpSpPr>
          <p:sp>
            <p:nvSpPr>
              <p:cNvPr id="194" name=""/>
              <p:cNvSpPr/>
              <p:nvPr/>
            </p:nvSpPr>
            <p:spPr>
              <a:xfrm>
                <a:off x="2477880" y="457200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2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iron  sulphat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066760" y="457200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65040" y="457200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magnesium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97" name=""/>
          <p:cNvGraphicFramePr/>
          <p:nvPr/>
        </p:nvGraphicFramePr>
        <p:xfrm>
          <a:off x="289080" y="5410080"/>
          <a:ext cx="8115120" cy="42516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400"/>
                <a:gridCol w="457200"/>
                <a:gridCol w="1674720"/>
                <a:gridCol w="38268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_____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6094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04000" y="137160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21320" y="1371600"/>
            <a:ext cx="3826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1371600"/>
            <a:ext cx="177300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nesium sulph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34800" y="1371600"/>
            <a:ext cx="4313160" cy="700200"/>
            <a:chOff x="334800" y="1371600"/>
            <a:chExt cx="4313160" cy="700200"/>
          </a:xfrm>
        </p:grpSpPr>
        <p:sp>
          <p:nvSpPr>
            <p:cNvPr id="203" name=""/>
            <p:cNvSpPr/>
            <p:nvPr/>
          </p:nvSpPr>
          <p:spPr>
            <a:xfrm>
              <a:off x="4219560" y="137160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34800" y="1371600"/>
              <a:ext cx="3884760" cy="700200"/>
              <a:chOff x="334800" y="1371600"/>
              <a:chExt cx="3884760" cy="700200"/>
            </a:xfrm>
          </p:grpSpPr>
          <p:sp>
            <p:nvSpPr>
              <p:cNvPr id="205" name=""/>
              <p:cNvSpPr/>
              <p:nvPr/>
            </p:nvSpPr>
            <p:spPr>
              <a:xfrm>
                <a:off x="2447640" y="137160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copper sulphat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036520" y="137160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34800" y="137160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magnesium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08" name=""/>
          <p:cNvGraphicFramePr/>
          <p:nvPr/>
        </p:nvGraphicFramePr>
        <p:xfrm>
          <a:off x="258840" y="2209680"/>
          <a:ext cx="8115120" cy="42516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400"/>
                <a:gridCol w="457200"/>
                <a:gridCol w="1675080"/>
                <a:gridCol w="38232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6834240" y="289548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n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51560" y="2895480"/>
            <a:ext cx="3826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78200" y="2895480"/>
            <a:ext cx="177336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nesium sulph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65040" y="2895480"/>
            <a:ext cx="4313160" cy="700200"/>
            <a:chOff x="365040" y="2895480"/>
            <a:chExt cx="4313160" cy="700200"/>
          </a:xfrm>
        </p:grpSpPr>
        <p:sp>
          <p:nvSpPr>
            <p:cNvPr id="213" name=""/>
            <p:cNvSpPr/>
            <p:nvPr/>
          </p:nvSpPr>
          <p:spPr>
            <a:xfrm>
              <a:off x="4249800" y="289548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365040" y="2895480"/>
              <a:ext cx="3884760" cy="700200"/>
              <a:chOff x="365040" y="2895480"/>
              <a:chExt cx="3884760" cy="700200"/>
            </a:xfrm>
          </p:grpSpPr>
          <p:sp>
            <p:nvSpPr>
              <p:cNvPr id="215" name=""/>
              <p:cNvSpPr/>
              <p:nvPr/>
            </p:nvSpPr>
            <p:spPr>
              <a:xfrm>
                <a:off x="2477880" y="289548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5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zinc sulphat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066760" y="289548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5040" y="289548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magnesium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18" name=""/>
          <p:cNvGraphicFramePr/>
          <p:nvPr/>
        </p:nvGraphicFramePr>
        <p:xfrm>
          <a:off x="289080" y="3733920"/>
          <a:ext cx="8115120" cy="42516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400"/>
                <a:gridCol w="457200"/>
                <a:gridCol w="1674720"/>
                <a:gridCol w="38268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6834240" y="457200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1560" y="4572000"/>
            <a:ext cx="3826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78200" y="4572000"/>
            <a:ext cx="177336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nesium sulph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65040" y="4572000"/>
            <a:ext cx="4313160" cy="700200"/>
            <a:chOff x="365040" y="4572000"/>
            <a:chExt cx="4313160" cy="700200"/>
          </a:xfrm>
        </p:grpSpPr>
        <p:sp>
          <p:nvSpPr>
            <p:cNvPr id="223" name=""/>
            <p:cNvSpPr/>
            <p:nvPr/>
          </p:nvSpPr>
          <p:spPr>
            <a:xfrm>
              <a:off x="4249800" y="457200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365040" y="4572000"/>
              <a:ext cx="3884760" cy="700200"/>
              <a:chOff x="365040" y="4572000"/>
              <a:chExt cx="3884760" cy="700200"/>
            </a:xfrm>
          </p:grpSpPr>
          <p:sp>
            <p:nvSpPr>
              <p:cNvPr id="225" name=""/>
              <p:cNvSpPr/>
              <p:nvPr/>
            </p:nvSpPr>
            <p:spPr>
              <a:xfrm>
                <a:off x="2477880" y="457200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2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iron  sulphat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066760" y="457200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65040" y="457200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magnesium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28" name=""/>
          <p:cNvGraphicFramePr/>
          <p:nvPr/>
        </p:nvGraphicFramePr>
        <p:xfrm>
          <a:off x="289080" y="5410080"/>
          <a:ext cx="8115120" cy="42516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400"/>
                <a:gridCol w="457200"/>
                <a:gridCol w="1674720"/>
                <a:gridCol w="38268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04920" y="4572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i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04000" y="129528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421320" y="1295280"/>
            <a:ext cx="3826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34800" y="1295280"/>
            <a:ext cx="4313160" cy="700200"/>
            <a:chOff x="334800" y="1295280"/>
            <a:chExt cx="4313160" cy="700200"/>
          </a:xfrm>
        </p:grpSpPr>
        <p:sp>
          <p:nvSpPr>
            <p:cNvPr id="233" name=""/>
            <p:cNvSpPr/>
            <p:nvPr/>
          </p:nvSpPr>
          <p:spPr>
            <a:xfrm>
              <a:off x="4219560" y="129528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334800" y="1295280"/>
              <a:ext cx="3884760" cy="700200"/>
              <a:chOff x="334800" y="1295280"/>
              <a:chExt cx="3884760" cy="700200"/>
            </a:xfrm>
          </p:grpSpPr>
          <p:sp>
            <p:nvSpPr>
              <p:cNvPr id="235" name=""/>
              <p:cNvSpPr/>
              <p:nvPr/>
            </p:nvSpPr>
            <p:spPr>
              <a:xfrm>
                <a:off x="2447640" y="129528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magnesium sulphat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36520" y="129528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34800" y="129528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Zin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38" name=""/>
          <p:cNvGraphicFramePr/>
          <p:nvPr/>
        </p:nvGraphicFramePr>
        <p:xfrm>
          <a:off x="258840" y="2133720"/>
          <a:ext cx="8115120" cy="42516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400"/>
                <a:gridCol w="457200"/>
                <a:gridCol w="1675080"/>
                <a:gridCol w="38232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6834240" y="2819520"/>
            <a:ext cx="1646280" cy="69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51560" y="2819520"/>
            <a:ext cx="382680" cy="69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78200" y="2819520"/>
            <a:ext cx="1773360" cy="69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nc sulph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65040" y="2819520"/>
            <a:ext cx="4313160" cy="699840"/>
            <a:chOff x="365040" y="2819520"/>
            <a:chExt cx="4313160" cy="699840"/>
          </a:xfrm>
        </p:grpSpPr>
        <p:sp>
          <p:nvSpPr>
            <p:cNvPr id="243" name=""/>
            <p:cNvSpPr/>
            <p:nvPr/>
          </p:nvSpPr>
          <p:spPr>
            <a:xfrm>
              <a:off x="4249800" y="2819520"/>
              <a:ext cx="428400" cy="69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365040" y="2819520"/>
              <a:ext cx="3884760" cy="699840"/>
              <a:chOff x="365040" y="2819520"/>
              <a:chExt cx="3884760" cy="699840"/>
            </a:xfrm>
          </p:grpSpPr>
          <p:sp>
            <p:nvSpPr>
              <p:cNvPr id="245" name=""/>
              <p:cNvSpPr/>
              <p:nvPr/>
            </p:nvSpPr>
            <p:spPr>
              <a:xfrm>
                <a:off x="2477880" y="2819520"/>
                <a:ext cx="1771920" cy="699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5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iron sulphat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066760" y="2819520"/>
                <a:ext cx="411120" cy="69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65040" y="2819520"/>
                <a:ext cx="1701720" cy="6998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Zin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48" name=""/>
          <p:cNvGraphicFramePr/>
          <p:nvPr/>
        </p:nvGraphicFramePr>
        <p:xfrm>
          <a:off x="289080" y="3657600"/>
          <a:ext cx="8115120" cy="42552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400"/>
                <a:gridCol w="457200"/>
                <a:gridCol w="1674720"/>
                <a:gridCol w="38268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_____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____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6834240" y="449568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51560" y="4495680"/>
            <a:ext cx="3826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78200" y="4495680"/>
            <a:ext cx="177336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65040" y="4495680"/>
            <a:ext cx="4313160" cy="700200"/>
            <a:chOff x="365040" y="4495680"/>
            <a:chExt cx="4313160" cy="700200"/>
          </a:xfrm>
        </p:grpSpPr>
        <p:sp>
          <p:nvSpPr>
            <p:cNvPr id="253" name=""/>
            <p:cNvSpPr/>
            <p:nvPr/>
          </p:nvSpPr>
          <p:spPr>
            <a:xfrm>
              <a:off x="4249800" y="449568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365040" y="4495680"/>
              <a:ext cx="3884760" cy="700200"/>
              <a:chOff x="365040" y="4495680"/>
              <a:chExt cx="3884760" cy="700200"/>
            </a:xfrm>
          </p:grpSpPr>
          <p:sp>
            <p:nvSpPr>
              <p:cNvPr id="255" name=""/>
              <p:cNvSpPr/>
              <p:nvPr/>
            </p:nvSpPr>
            <p:spPr>
              <a:xfrm>
                <a:off x="2477880" y="449568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copper  sulphat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66760" y="449568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65040" y="449568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Zin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58" name=""/>
          <p:cNvGraphicFramePr/>
          <p:nvPr/>
        </p:nvGraphicFramePr>
        <p:xfrm>
          <a:off x="289080" y="5334120"/>
          <a:ext cx="8115120" cy="42516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400"/>
                <a:gridCol w="457200"/>
                <a:gridCol w="1674720"/>
                <a:gridCol w="38268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____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_____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______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04920" y="4572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i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04000" y="129528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21320" y="1295280"/>
            <a:ext cx="3826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1295280"/>
            <a:ext cx="177300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34800" y="1295280"/>
            <a:ext cx="4313160" cy="700200"/>
            <a:chOff x="334800" y="1295280"/>
            <a:chExt cx="4313160" cy="700200"/>
          </a:xfrm>
        </p:grpSpPr>
        <p:sp>
          <p:nvSpPr>
            <p:cNvPr id="264" name=""/>
            <p:cNvSpPr/>
            <p:nvPr/>
          </p:nvSpPr>
          <p:spPr>
            <a:xfrm>
              <a:off x="4219560" y="129528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334800" y="1295280"/>
              <a:ext cx="3884760" cy="700200"/>
              <a:chOff x="334800" y="1295280"/>
              <a:chExt cx="3884760" cy="700200"/>
            </a:xfrm>
          </p:grpSpPr>
          <p:sp>
            <p:nvSpPr>
              <p:cNvPr id="266" name=""/>
              <p:cNvSpPr/>
              <p:nvPr/>
            </p:nvSpPr>
            <p:spPr>
              <a:xfrm>
                <a:off x="2447640" y="129528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magnesium sulphat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36520" y="129528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4800" y="129528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Zin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69" name=""/>
          <p:cNvGraphicFramePr/>
          <p:nvPr/>
        </p:nvGraphicFramePr>
        <p:xfrm>
          <a:off x="258840" y="2133720"/>
          <a:ext cx="8115120" cy="42516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400"/>
                <a:gridCol w="457200"/>
                <a:gridCol w="1675080"/>
                <a:gridCol w="38232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6834240" y="2819520"/>
            <a:ext cx="1646280" cy="69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51560" y="2819520"/>
            <a:ext cx="382680" cy="69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78200" y="2819520"/>
            <a:ext cx="1773360" cy="69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nc sulph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65040" y="2819520"/>
            <a:ext cx="4313160" cy="699840"/>
            <a:chOff x="365040" y="2819520"/>
            <a:chExt cx="4313160" cy="699840"/>
          </a:xfrm>
        </p:grpSpPr>
        <p:sp>
          <p:nvSpPr>
            <p:cNvPr id="274" name=""/>
            <p:cNvSpPr/>
            <p:nvPr/>
          </p:nvSpPr>
          <p:spPr>
            <a:xfrm>
              <a:off x="4249800" y="2819520"/>
              <a:ext cx="428400" cy="69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65040" y="2819520"/>
              <a:ext cx="3884760" cy="699840"/>
              <a:chOff x="365040" y="2819520"/>
              <a:chExt cx="3884760" cy="69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477880" y="2819520"/>
                <a:ext cx="1771920" cy="699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5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iron sulphat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066760" y="2819520"/>
                <a:ext cx="411120" cy="69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65040" y="2819520"/>
                <a:ext cx="1701720" cy="6998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Zin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79" name=""/>
          <p:cNvGraphicFramePr/>
          <p:nvPr/>
        </p:nvGraphicFramePr>
        <p:xfrm>
          <a:off x="289080" y="3657600"/>
          <a:ext cx="8115120" cy="42552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400"/>
                <a:gridCol w="457200"/>
                <a:gridCol w="1674720"/>
                <a:gridCol w="38268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6834240" y="449568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51560" y="4495680"/>
            <a:ext cx="3826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78200" y="4495680"/>
            <a:ext cx="177336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nc sulph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65040" y="4495680"/>
            <a:ext cx="4313160" cy="700200"/>
            <a:chOff x="365040" y="4495680"/>
            <a:chExt cx="4313160" cy="700200"/>
          </a:xfrm>
        </p:grpSpPr>
        <p:sp>
          <p:nvSpPr>
            <p:cNvPr id="284" name=""/>
            <p:cNvSpPr/>
            <p:nvPr/>
          </p:nvSpPr>
          <p:spPr>
            <a:xfrm>
              <a:off x="4249800" y="449568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65040" y="4495680"/>
              <a:ext cx="3884760" cy="700200"/>
              <a:chOff x="365040" y="4495680"/>
              <a:chExt cx="3884760" cy="700200"/>
            </a:xfrm>
          </p:grpSpPr>
          <p:sp>
            <p:nvSpPr>
              <p:cNvPr id="286" name=""/>
              <p:cNvSpPr/>
              <p:nvPr/>
            </p:nvSpPr>
            <p:spPr>
              <a:xfrm>
                <a:off x="2477880" y="449568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copper  sulphat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66760" y="449568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65040" y="449568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Zin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89" name=""/>
          <p:cNvGraphicFramePr/>
          <p:nvPr/>
        </p:nvGraphicFramePr>
        <p:xfrm>
          <a:off x="289080" y="5334120"/>
          <a:ext cx="8115120" cy="42516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400"/>
                <a:gridCol w="457200"/>
                <a:gridCol w="1674720"/>
                <a:gridCol w="38268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rmi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uminium + iron oxide = aluminium oxide + 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42920" y="227664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        +          FeO            =         AlO      +       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3672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7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5638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isplacement of ox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153280" cy="2590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re reactive metal can displace a less reactive one from a solution of one of its sa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ar reactions take place with solid reactants such as the oxides.  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34320" y="388620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551640" y="3886200"/>
            <a:ext cx="3826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78280" y="3886200"/>
            <a:ext cx="177336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uminium oxi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65120" y="3886200"/>
            <a:ext cx="4313160" cy="700200"/>
            <a:chOff x="465120" y="3886200"/>
            <a:chExt cx="4313160" cy="700200"/>
          </a:xfrm>
        </p:grpSpPr>
        <p:sp>
          <p:nvSpPr>
            <p:cNvPr id="300" name=""/>
            <p:cNvSpPr/>
            <p:nvPr/>
          </p:nvSpPr>
          <p:spPr>
            <a:xfrm>
              <a:off x="4349880" y="388620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465120" y="3886200"/>
              <a:ext cx="3884760" cy="700200"/>
              <a:chOff x="465120" y="3886200"/>
              <a:chExt cx="3884760" cy="700200"/>
            </a:xfrm>
          </p:grpSpPr>
          <p:sp>
            <p:nvSpPr>
              <p:cNvPr id="302" name=""/>
              <p:cNvSpPr/>
              <p:nvPr/>
            </p:nvSpPr>
            <p:spPr>
              <a:xfrm>
                <a:off x="2577960" y="388620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iron     oxid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66840" y="388620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65120" y="388620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aluminium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5" name=""/>
          <p:cNvSpPr/>
          <p:nvPr/>
        </p:nvSpPr>
        <p:spPr>
          <a:xfrm>
            <a:off x="457200" y="4800600"/>
            <a:ext cx="8147160" cy="15811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17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 more reactive aluminium wins the oxygen from the less reactive iron. This reaction gets so hot that the iron mel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3" dur="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956280" y="205740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573960" y="2057400"/>
            <a:ext cx="38232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00600" y="2057400"/>
            <a:ext cx="177336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87440" y="2057400"/>
            <a:ext cx="4313160" cy="700200"/>
            <a:chOff x="487440" y="2057400"/>
            <a:chExt cx="4313160" cy="700200"/>
          </a:xfrm>
        </p:grpSpPr>
        <p:sp>
          <p:nvSpPr>
            <p:cNvPr id="312" name=""/>
            <p:cNvSpPr/>
            <p:nvPr/>
          </p:nvSpPr>
          <p:spPr>
            <a:xfrm>
              <a:off x="4372200" y="205740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487440" y="2057400"/>
              <a:ext cx="3884760" cy="700200"/>
              <a:chOff x="487440" y="2057400"/>
              <a:chExt cx="3884760" cy="700200"/>
            </a:xfrm>
          </p:grpSpPr>
          <p:sp>
            <p:nvSpPr>
              <p:cNvPr id="314" name=""/>
              <p:cNvSpPr/>
              <p:nvPr/>
            </p:nvSpPr>
            <p:spPr>
              <a:xfrm>
                <a:off x="2600280" y="205740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zinc     oxid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89160" y="205740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87440" y="205740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iron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17" name=""/>
          <p:cNvGraphicFramePr/>
          <p:nvPr/>
        </p:nvGraphicFramePr>
        <p:xfrm>
          <a:off x="411120" y="2895480"/>
          <a:ext cx="8115480" cy="42552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760"/>
                <a:gridCol w="457200"/>
                <a:gridCol w="1674720"/>
                <a:gridCol w="38268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7010280" y="403848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27960" y="4038480"/>
            <a:ext cx="38232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854600" y="4038480"/>
            <a:ext cx="177336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on ox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41440" y="4038480"/>
            <a:ext cx="4313160" cy="700200"/>
            <a:chOff x="541440" y="4038480"/>
            <a:chExt cx="4313160" cy="700200"/>
          </a:xfrm>
        </p:grpSpPr>
        <p:sp>
          <p:nvSpPr>
            <p:cNvPr id="322" name=""/>
            <p:cNvSpPr/>
            <p:nvPr/>
          </p:nvSpPr>
          <p:spPr>
            <a:xfrm>
              <a:off x="4426200" y="403848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41440" y="4038480"/>
              <a:ext cx="3884760" cy="700200"/>
              <a:chOff x="541440" y="4038480"/>
              <a:chExt cx="3884760" cy="700200"/>
            </a:xfrm>
          </p:grpSpPr>
          <p:sp>
            <p:nvSpPr>
              <p:cNvPr id="324" name=""/>
              <p:cNvSpPr/>
              <p:nvPr/>
            </p:nvSpPr>
            <p:spPr>
              <a:xfrm>
                <a:off x="2654280" y="403848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copper     oxid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243160" y="403848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41440" y="403848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iron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27" name=""/>
          <p:cNvGraphicFramePr/>
          <p:nvPr/>
        </p:nvGraphicFramePr>
        <p:xfrm>
          <a:off x="465120" y="4876920"/>
          <a:ext cx="8115480" cy="42516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760"/>
                <a:gridCol w="457200"/>
                <a:gridCol w="1674720"/>
                <a:gridCol w="38268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F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Cu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C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380880" y="609480"/>
            <a:ext cx="7925040" cy="10159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on is in the middle of the three in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956280" y="205740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573960" y="2057400"/>
            <a:ext cx="38232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800600" y="2057400"/>
            <a:ext cx="177336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nc ox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487440" y="2057400"/>
            <a:ext cx="4313160" cy="700200"/>
            <a:chOff x="487440" y="2057400"/>
            <a:chExt cx="4313160" cy="700200"/>
          </a:xfrm>
        </p:grpSpPr>
        <p:sp>
          <p:nvSpPr>
            <p:cNvPr id="333" name=""/>
            <p:cNvSpPr/>
            <p:nvPr/>
          </p:nvSpPr>
          <p:spPr>
            <a:xfrm>
              <a:off x="4372200" y="205740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487440" y="2057400"/>
              <a:ext cx="3884760" cy="700200"/>
              <a:chOff x="487440" y="2057400"/>
              <a:chExt cx="3884760" cy="700200"/>
            </a:xfrm>
          </p:grpSpPr>
          <p:sp>
            <p:nvSpPr>
              <p:cNvPr id="335" name=""/>
              <p:cNvSpPr/>
              <p:nvPr/>
            </p:nvSpPr>
            <p:spPr>
              <a:xfrm>
                <a:off x="2600280" y="205740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copper     oxid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189160" y="205740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87440" y="205740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zin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38" name=""/>
          <p:cNvGraphicFramePr/>
          <p:nvPr/>
        </p:nvGraphicFramePr>
        <p:xfrm>
          <a:off x="411120" y="2895480"/>
          <a:ext cx="8115480" cy="42552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760"/>
                <a:gridCol w="457200"/>
                <a:gridCol w="1674720"/>
                <a:gridCol w="382680"/>
                <a:gridCol w="16462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339" name=""/>
          <p:cNvSpPr/>
          <p:nvPr/>
        </p:nvSpPr>
        <p:spPr>
          <a:xfrm>
            <a:off x="7010280" y="411480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27960" y="4114800"/>
            <a:ext cx="38232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54600" y="4114800"/>
            <a:ext cx="177336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nc ox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41440" y="4114800"/>
            <a:ext cx="4313160" cy="700200"/>
            <a:chOff x="541440" y="4114800"/>
            <a:chExt cx="4313160" cy="700200"/>
          </a:xfrm>
        </p:grpSpPr>
        <p:sp>
          <p:nvSpPr>
            <p:cNvPr id="343" name=""/>
            <p:cNvSpPr/>
            <p:nvPr/>
          </p:nvSpPr>
          <p:spPr>
            <a:xfrm>
              <a:off x="4426200" y="411480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541440" y="4114800"/>
              <a:ext cx="3884760" cy="700200"/>
              <a:chOff x="541440" y="4114800"/>
              <a:chExt cx="3884760" cy="700200"/>
            </a:xfrm>
          </p:grpSpPr>
          <p:sp>
            <p:nvSpPr>
              <p:cNvPr id="345" name=""/>
              <p:cNvSpPr/>
              <p:nvPr/>
            </p:nvSpPr>
            <p:spPr>
              <a:xfrm>
                <a:off x="2654280" y="411480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iron     oxid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243160" y="411480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41440" y="411480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zin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8" name=""/>
          <p:cNvGraphicFramePr/>
          <p:nvPr/>
        </p:nvGraphicFramePr>
        <p:xfrm>
          <a:off x="465120" y="4952880"/>
          <a:ext cx="8115480" cy="42552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760"/>
                <a:gridCol w="457200"/>
                <a:gridCol w="1674720"/>
                <a:gridCol w="38268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Z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Fe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Z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F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>
            <a:off x="380880" y="609480"/>
            <a:ext cx="7925040" cy="101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i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inc is the most reactive of the three me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7010280" y="2133720"/>
            <a:ext cx="1646280" cy="69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627960" y="2133720"/>
            <a:ext cx="382320" cy="69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4600" y="2133720"/>
            <a:ext cx="1773360" cy="69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41440" y="2133720"/>
            <a:ext cx="4313160" cy="699840"/>
            <a:chOff x="541440" y="2133720"/>
            <a:chExt cx="4313160" cy="699840"/>
          </a:xfrm>
        </p:grpSpPr>
        <p:sp>
          <p:nvSpPr>
            <p:cNvPr id="354" name=""/>
            <p:cNvSpPr/>
            <p:nvPr/>
          </p:nvSpPr>
          <p:spPr>
            <a:xfrm>
              <a:off x="4426200" y="2133720"/>
              <a:ext cx="428400" cy="69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541440" y="2133720"/>
              <a:ext cx="3884760" cy="699840"/>
              <a:chOff x="541440" y="2133720"/>
              <a:chExt cx="3884760" cy="699840"/>
            </a:xfrm>
          </p:grpSpPr>
          <p:sp>
            <p:nvSpPr>
              <p:cNvPr id="356" name=""/>
              <p:cNvSpPr/>
              <p:nvPr/>
            </p:nvSpPr>
            <p:spPr>
              <a:xfrm>
                <a:off x="2654280" y="2133720"/>
                <a:ext cx="1771920" cy="699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zinc     oxid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243160" y="2133720"/>
                <a:ext cx="411120" cy="69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41440" y="2133720"/>
                <a:ext cx="1701720" cy="6998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coppe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59" name=""/>
          <p:cNvGraphicFramePr/>
          <p:nvPr/>
        </p:nvGraphicFramePr>
        <p:xfrm>
          <a:off x="465120" y="2971800"/>
          <a:ext cx="8115480" cy="42552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760"/>
                <a:gridCol w="457200"/>
                <a:gridCol w="1674720"/>
                <a:gridCol w="38268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360" name=""/>
          <p:cNvSpPr/>
          <p:nvPr/>
        </p:nvSpPr>
        <p:spPr>
          <a:xfrm>
            <a:off x="7040520" y="403848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57840" y="4038480"/>
            <a:ext cx="3826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84840" y="4038480"/>
            <a:ext cx="177300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71680" y="4038480"/>
            <a:ext cx="4313160" cy="700200"/>
            <a:chOff x="571680" y="4038480"/>
            <a:chExt cx="4313160" cy="700200"/>
          </a:xfrm>
        </p:grpSpPr>
        <p:sp>
          <p:nvSpPr>
            <p:cNvPr id="364" name=""/>
            <p:cNvSpPr/>
            <p:nvPr/>
          </p:nvSpPr>
          <p:spPr>
            <a:xfrm>
              <a:off x="4456440" y="403848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571680" y="4038480"/>
              <a:ext cx="3884760" cy="700200"/>
              <a:chOff x="571680" y="4038480"/>
              <a:chExt cx="3884760" cy="700200"/>
            </a:xfrm>
          </p:grpSpPr>
          <p:sp>
            <p:nvSpPr>
              <p:cNvPr id="366" name=""/>
              <p:cNvSpPr/>
              <p:nvPr/>
            </p:nvSpPr>
            <p:spPr>
              <a:xfrm>
                <a:off x="2684520" y="403848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iron     oxid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273400" y="403848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71680" y="403848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coppe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69" name=""/>
          <p:cNvGraphicFramePr/>
          <p:nvPr/>
        </p:nvGraphicFramePr>
        <p:xfrm>
          <a:off x="495360" y="4876920"/>
          <a:ext cx="8115120" cy="42516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400"/>
                <a:gridCol w="457200"/>
                <a:gridCol w="1675080"/>
                <a:gridCol w="38232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380880" y="609480"/>
            <a:ext cx="7925040" cy="13816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per is low in the activity series and will not displace either of these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000"/>
                            </p:stCondLst>
                            <p:childTnLst>
                              <p:par>
                                <p:cTn id="8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12000" y="620640"/>
            <a:ext cx="2371680" cy="3849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>
            <a:lum bright="-24000"/>
          </a:blip>
          <a:srcRect l="32127" t="9936" r="20627" b="40472"/>
          <a:stretch/>
        </p:blipFill>
        <p:spPr>
          <a:xfrm>
            <a:off x="4356000" y="1484280"/>
            <a:ext cx="1027080" cy="1438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>
            <a:lum bright="-12000"/>
          </a:blip>
          <a:srcRect l="0" t="28577" r="0" b="0"/>
          <a:stretch/>
        </p:blipFill>
        <p:spPr>
          <a:xfrm>
            <a:off x="0" y="4221000"/>
            <a:ext cx="9144000" cy="2880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140360" y="0"/>
            <a:ext cx="1341360" cy="1557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780000" y="2708280"/>
            <a:ext cx="2160360" cy="161928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7308720" y="907920"/>
            <a:ext cx="2148480" cy="3863520"/>
            <a:chOff x="7308720" y="907920"/>
            <a:chExt cx="2148480" cy="3863520"/>
          </a:xfrm>
        </p:grpSpPr>
        <p:pic>
          <p:nvPicPr>
            <p:cNvPr id="50" name="" descr=""/>
            <p:cNvPicPr/>
            <p:nvPr/>
          </p:nvPicPr>
          <p:blipFill>
            <a:blip r:embed="rId6">
              <a:lum bright="-6000"/>
            </a:blip>
            <a:srcRect l="0" t="0" r="40702" b="-44"/>
            <a:stretch/>
          </p:blipFill>
          <p:spPr>
            <a:xfrm>
              <a:off x="7308720" y="907920"/>
              <a:ext cx="1842120" cy="359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 rot="21082200">
              <a:off x="8731800" y="3383640"/>
              <a:ext cx="627840" cy="134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6588000" y="2708280"/>
            <a:ext cx="122580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740720" y="2708280"/>
            <a:ext cx="11872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1413000"/>
            <a:ext cx="1619280" cy="3574800"/>
            <a:chOff x="0" y="1413000"/>
            <a:chExt cx="1619280" cy="3574800"/>
          </a:xfrm>
        </p:grpSpPr>
        <p:pic>
          <p:nvPicPr>
            <p:cNvPr id="55" name="" descr=""/>
            <p:cNvPicPr/>
            <p:nvPr/>
          </p:nvPicPr>
          <p:blipFill>
            <a:blip r:embed="rId7"/>
            <a:srcRect l="32193" t="0" r="25489" b="0"/>
            <a:stretch/>
          </p:blipFill>
          <p:spPr>
            <a:xfrm>
              <a:off x="0" y="1413000"/>
              <a:ext cx="1512720" cy="35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24000" y="3645000"/>
              <a:ext cx="1295280" cy="1008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 rot="16479000">
            <a:off x="5350320" y="-707040"/>
            <a:ext cx="905040" cy="2319480"/>
          </a:xfrm>
          <a:prstGeom prst="wedgeEllipseCallout">
            <a:avLst>
              <a:gd name="adj1" fmla="val -86342"/>
              <a:gd name="adj2" fmla="val 11789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me think abou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9280" y="1268280"/>
            <a:ext cx="1657080" cy="792360"/>
          </a:xfrm>
          <a:prstGeom prst="wedgeEllipseCallout">
            <a:avLst>
              <a:gd name="adj1" fmla="val 75768"/>
              <a:gd name="adj2" fmla="val 12274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s get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83237E-006 L 0.37205 0.07514 E">
                                      <p:cBhvr>
                                        <p:cTn id="19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" dur="1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" dur="1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1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16185E-006 L -0.33264 0.17271 E">
                                      <p:cBhvr>
                                        <p:cTn id="59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58382E-006 L -0.30903 0.19422 E">
                                      <p:cBhvr>
                                        <p:cTn id="61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399960" indent="-39996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it react:  Yes or no?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162920" y="1143000"/>
            <a:ext cx="1600200" cy="4540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00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380880" y="1143000"/>
          <a:ext cx="6400800" cy="5122800"/>
        </p:xfrm>
        <a:graphic>
          <a:graphicData uri="http://schemas.openxmlformats.org/drawingml/2006/table">
            <a:tbl>
              <a:tblPr/>
              <a:tblGrid>
                <a:gridCol w="2479680"/>
                <a:gridCol w="2320920"/>
                <a:gridCol w="1600200"/>
              </a:tblGrid>
              <a:tr h="662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React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Reacti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iron ox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magne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copper sulph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zi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potas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hydrochloric a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g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iron chlor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calc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sodium chlor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calc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oxy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"/>
          <p:cNvSpPr/>
          <p:nvPr/>
        </p:nvSpPr>
        <p:spPr>
          <a:xfrm>
            <a:off x="5562720" y="1905120"/>
            <a:ext cx="838080" cy="368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62720" y="2666880"/>
            <a:ext cx="838080" cy="368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486400" y="3505320"/>
            <a:ext cx="838080" cy="368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86400" y="5029200"/>
            <a:ext cx="838080" cy="368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486400" y="5791320"/>
            <a:ext cx="838080" cy="368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800" y="0"/>
            <a:ext cx="114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381320" y="1916280"/>
            <a:ext cx="6214320" cy="2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0" lang="en-US" sz="15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028160" y="1989000"/>
            <a:ext cx="65890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Arial"/>
              </a:rPr>
              <a:t>ZnSO</a:t>
            </a:r>
            <a:r>
              <a:rPr b="0" lang="en-US" sz="17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028160" y="1989000"/>
            <a:ext cx="65890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Arial"/>
              </a:rPr>
              <a:t>ZnSO</a:t>
            </a:r>
            <a:r>
              <a:rPr b="0" lang="en-US" sz="17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028160" y="1989000"/>
            <a:ext cx="65890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Arial"/>
              </a:rPr>
              <a:t>ZnSO</a:t>
            </a:r>
            <a:r>
              <a:rPr b="0" lang="en-US" sz="17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820160" y="1689120"/>
            <a:ext cx="65890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en-US" sz="17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820160" y="1689120"/>
            <a:ext cx="65890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en-US" sz="17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314720" y="1916280"/>
            <a:ext cx="67125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Arial"/>
              </a:rPr>
              <a:t>PbSO</a:t>
            </a:r>
            <a:r>
              <a:rPr b="0" lang="en-US" sz="17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71440" y="2060640"/>
            <a:ext cx="70754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Arial"/>
              </a:rPr>
              <a:t>MgSO</a:t>
            </a:r>
            <a:r>
              <a:rPr b="0" lang="en-US" sz="17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171440" y="2060640"/>
            <a:ext cx="70754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Arial"/>
              </a:rPr>
              <a:t>MgSO</a:t>
            </a:r>
            <a:r>
              <a:rPr b="0" lang="en-US" sz="17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42464" t="0" r="10290" b="0"/>
          <a:stretch/>
        </p:blipFill>
        <p:spPr>
          <a:xfrm>
            <a:off x="6012000" y="0"/>
            <a:ext cx="1954080" cy="4137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>
            <a:lum bright="-24000"/>
          </a:blip>
          <a:srcRect l="32127" t="9936" r="20627" b="40472"/>
          <a:stretch/>
        </p:blipFill>
        <p:spPr>
          <a:xfrm>
            <a:off x="4356000" y="1484280"/>
            <a:ext cx="1027080" cy="1438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>
            <a:lum bright="-12000"/>
          </a:blip>
          <a:srcRect l="0" t="28577" r="0" b="0"/>
          <a:stretch/>
        </p:blipFill>
        <p:spPr>
          <a:xfrm>
            <a:off x="0" y="4221000"/>
            <a:ext cx="9144000" cy="2880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140360" y="0"/>
            <a:ext cx="1341360" cy="1557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780000" y="2708280"/>
            <a:ext cx="2160360" cy="1619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372360" y="2276640"/>
            <a:ext cx="12952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50920" y="2133720"/>
            <a:ext cx="1944000" cy="3933360"/>
            <a:chOff x="250920" y="2133720"/>
            <a:chExt cx="1944000" cy="3933360"/>
          </a:xfrm>
        </p:grpSpPr>
        <p:pic>
          <p:nvPicPr>
            <p:cNvPr id="66" name="" descr=""/>
            <p:cNvPicPr/>
            <p:nvPr/>
          </p:nvPicPr>
          <p:blipFill>
            <a:blip r:embed="rId6"/>
            <a:srcRect l="32193" t="0" r="25489" b="0"/>
            <a:stretch/>
          </p:blipFill>
          <p:spPr>
            <a:xfrm>
              <a:off x="250920" y="2133720"/>
              <a:ext cx="1816560" cy="39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39720" y="4589640"/>
              <a:ext cx="1555200" cy="1109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7451640" y="907920"/>
            <a:ext cx="2148480" cy="3934800"/>
            <a:chOff x="7451640" y="907920"/>
            <a:chExt cx="2148480" cy="3934800"/>
          </a:xfrm>
        </p:grpSpPr>
        <p:grpSp>
          <p:nvGrpSpPr>
            <p:cNvPr id="69" name=""/>
            <p:cNvGrpSpPr/>
            <p:nvPr/>
          </p:nvGrpSpPr>
          <p:grpSpPr>
            <a:xfrm>
              <a:off x="7451640" y="979200"/>
              <a:ext cx="2148480" cy="3863520"/>
              <a:chOff x="7451640" y="979200"/>
              <a:chExt cx="2148480" cy="3863520"/>
            </a:xfrm>
          </p:grpSpPr>
          <p:pic>
            <p:nvPicPr>
              <p:cNvPr id="70" name="" descr=""/>
              <p:cNvPicPr/>
              <p:nvPr/>
            </p:nvPicPr>
            <p:blipFill>
              <a:blip r:embed="rId7">
                <a:lum bright="-6000"/>
              </a:blip>
              <a:srcRect l="0" t="0" r="40702" b="-44"/>
              <a:stretch/>
            </p:blipFill>
            <p:spPr>
              <a:xfrm>
                <a:off x="7451640" y="979200"/>
                <a:ext cx="1842120" cy="359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 rot="21082200">
                <a:off x="8874720" y="3454920"/>
                <a:ext cx="627840" cy="1347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" name="" descr=""/>
            <p:cNvPicPr/>
            <p:nvPr/>
          </p:nvPicPr>
          <p:blipFill>
            <a:blip r:embed="rId8"/>
            <a:srcRect l="11817" t="0" r="10763" b="11693"/>
            <a:stretch/>
          </p:blipFill>
          <p:spPr>
            <a:xfrm>
              <a:off x="8099640" y="907920"/>
              <a:ext cx="936360" cy="7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7667640" y="2276640"/>
            <a:ext cx="11872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2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3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0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1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2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1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5723E-006 L -0.42708 0.19885 E">
                                      <p:cBhvr>
                                        <p:cTn id="9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4104E-006 L -0.38767 0.26752 E">
                                      <p:cBhvr>
                                        <p:cTn id="97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30520" y="2349360"/>
            <a:ext cx="77792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No reaction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196720" y="981000"/>
            <a:ext cx="506808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7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196720" y="981000"/>
            <a:ext cx="506808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7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485080" y="836640"/>
            <a:ext cx="470232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3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485080" y="836640"/>
            <a:ext cx="470232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3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485080" y="836640"/>
            <a:ext cx="470232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3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269440" y="907920"/>
            <a:ext cx="513360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3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269440" y="907920"/>
            <a:ext cx="513360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3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628000" y="836640"/>
            <a:ext cx="470232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3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628000" y="836640"/>
            <a:ext cx="470232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3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>
            <a:lum bright="-24000"/>
          </a:blip>
          <a:srcRect l="32127" t="9936" r="20627" b="40472"/>
          <a:stretch/>
        </p:blipFill>
        <p:spPr>
          <a:xfrm>
            <a:off x="4356000" y="1484280"/>
            <a:ext cx="1027080" cy="1438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>
            <a:lum bright="-12000"/>
          </a:blip>
          <a:srcRect l="0" t="28577" r="0" b="0"/>
          <a:stretch/>
        </p:blipFill>
        <p:spPr>
          <a:xfrm>
            <a:off x="0" y="4221000"/>
            <a:ext cx="9144000" cy="288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140360" y="0"/>
            <a:ext cx="1341360" cy="1557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780000" y="2708280"/>
            <a:ext cx="2160360" cy="161928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7451640" y="907920"/>
            <a:ext cx="2148480" cy="3934800"/>
            <a:chOff x="7451640" y="907920"/>
            <a:chExt cx="2148480" cy="3934800"/>
          </a:xfrm>
        </p:grpSpPr>
        <p:grpSp>
          <p:nvGrpSpPr>
            <p:cNvPr id="79" name=""/>
            <p:cNvGrpSpPr/>
            <p:nvPr/>
          </p:nvGrpSpPr>
          <p:grpSpPr>
            <a:xfrm>
              <a:off x="7451640" y="979200"/>
              <a:ext cx="2148480" cy="3863520"/>
              <a:chOff x="7451640" y="979200"/>
              <a:chExt cx="2148480" cy="3863520"/>
            </a:xfrm>
          </p:grpSpPr>
          <p:pic>
            <p:nvPicPr>
              <p:cNvPr id="80" name="" descr=""/>
              <p:cNvPicPr/>
              <p:nvPr/>
            </p:nvPicPr>
            <p:blipFill>
              <a:blip r:embed="rId5">
                <a:lum bright="-6000"/>
              </a:blip>
              <a:srcRect l="0" t="0" r="40702" b="-44"/>
              <a:stretch/>
            </p:blipFill>
            <p:spPr>
              <a:xfrm>
                <a:off x="7451640" y="979200"/>
                <a:ext cx="1842120" cy="359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 rot="21082200">
                <a:off x="8874720" y="3454920"/>
                <a:ext cx="627840" cy="1347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" name="" descr=""/>
            <p:cNvPicPr/>
            <p:nvPr/>
          </p:nvPicPr>
          <p:blipFill>
            <a:blip r:embed="rId6"/>
            <a:srcRect l="11817" t="0" r="10763" b="11693"/>
            <a:stretch/>
          </p:blipFill>
          <p:spPr>
            <a:xfrm>
              <a:off x="8099640" y="907920"/>
              <a:ext cx="936360" cy="71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" descr=""/>
          <p:cNvPicPr/>
          <p:nvPr/>
        </p:nvPicPr>
        <p:blipFill>
          <a:blip r:embed="rId7"/>
          <a:srcRect l="42464" t="0" r="10290" b="0"/>
          <a:stretch/>
        </p:blipFill>
        <p:spPr>
          <a:xfrm>
            <a:off x="1692360" y="1557360"/>
            <a:ext cx="1954080" cy="4137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08000" y="4581360"/>
            <a:ext cx="1295640" cy="107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8"/>
          <a:srcRect l="37054" t="0" r="34815" b="0"/>
          <a:stretch/>
        </p:blipFill>
        <p:spPr>
          <a:xfrm>
            <a:off x="6640560" y="692280"/>
            <a:ext cx="1298520" cy="4057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740720" y="1916280"/>
            <a:ext cx="11872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88000" y="1916280"/>
            <a:ext cx="122400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4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3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4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21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2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3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5723E-006 L -0.49791 0.21989 E">
                                      <p:cBhvr>
                                        <p:cTn id="13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13873E-006 L -0.48229 0.32 E">
                                      <p:cBhvr>
                                        <p:cTn id="134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8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9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060360" y="0"/>
            <a:ext cx="31996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060360" y="0"/>
            <a:ext cx="31996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060360" y="0"/>
            <a:ext cx="31996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3060360" y="0"/>
            <a:ext cx="31996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060360" y="0"/>
            <a:ext cx="31996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060360" y="0"/>
            <a:ext cx="31996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060360" y="0"/>
            <a:ext cx="31996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060360" y="0"/>
            <a:ext cx="31996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060360" y="0"/>
            <a:ext cx="31996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564000" y="1773360"/>
            <a:ext cx="201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-24000"/>
          </a:blip>
          <a:srcRect l="32127" t="9936" r="20627" b="40472"/>
          <a:stretch/>
        </p:blipFill>
        <p:spPr>
          <a:xfrm>
            <a:off x="4356000" y="1484280"/>
            <a:ext cx="1027080" cy="1438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>
            <a:lum bright="-12000"/>
          </a:blip>
          <a:srcRect l="0" t="28577" r="0" b="0"/>
          <a:stretch/>
        </p:blipFill>
        <p:spPr>
          <a:xfrm>
            <a:off x="0" y="4221000"/>
            <a:ext cx="9144000" cy="2880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140360" y="0"/>
            <a:ext cx="1341360" cy="1557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780000" y="2708280"/>
            <a:ext cx="2160360" cy="161928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7451640" y="907920"/>
            <a:ext cx="2148480" cy="3934800"/>
            <a:chOff x="7451640" y="907920"/>
            <a:chExt cx="2148480" cy="3934800"/>
          </a:xfrm>
        </p:grpSpPr>
        <p:grpSp>
          <p:nvGrpSpPr>
            <p:cNvPr id="93" name=""/>
            <p:cNvGrpSpPr/>
            <p:nvPr/>
          </p:nvGrpSpPr>
          <p:grpSpPr>
            <a:xfrm>
              <a:off x="7451640" y="979200"/>
              <a:ext cx="2148480" cy="3863520"/>
              <a:chOff x="7451640" y="979200"/>
              <a:chExt cx="2148480" cy="3863520"/>
            </a:xfrm>
          </p:grpSpPr>
          <p:pic>
            <p:nvPicPr>
              <p:cNvPr id="94" name="" descr=""/>
              <p:cNvPicPr/>
              <p:nvPr/>
            </p:nvPicPr>
            <p:blipFill>
              <a:blip r:embed="rId5">
                <a:lum bright="-6000"/>
              </a:blip>
              <a:srcRect l="0" t="0" r="40702" b="-44"/>
              <a:stretch/>
            </p:blipFill>
            <p:spPr>
              <a:xfrm>
                <a:off x="7451640" y="979200"/>
                <a:ext cx="1842120" cy="359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 rot="21082200">
                <a:off x="8874720" y="3454920"/>
                <a:ext cx="627840" cy="1347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6" name="" descr=""/>
            <p:cNvPicPr/>
            <p:nvPr/>
          </p:nvPicPr>
          <p:blipFill>
            <a:blip r:embed="rId6"/>
            <a:srcRect l="11817" t="0" r="10763" b="11693"/>
            <a:stretch/>
          </p:blipFill>
          <p:spPr>
            <a:xfrm>
              <a:off x="8099640" y="907920"/>
              <a:ext cx="936360" cy="7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"/>
          <p:cNvGrpSpPr/>
          <p:nvPr/>
        </p:nvGrpSpPr>
        <p:grpSpPr>
          <a:xfrm>
            <a:off x="5940360" y="0"/>
            <a:ext cx="2448000" cy="5040360"/>
            <a:chOff x="5940360" y="0"/>
            <a:chExt cx="2448000" cy="5040360"/>
          </a:xfrm>
        </p:grpSpPr>
        <p:pic>
          <p:nvPicPr>
            <p:cNvPr id="98" name="" descr=""/>
            <p:cNvPicPr/>
            <p:nvPr/>
          </p:nvPicPr>
          <p:blipFill>
            <a:blip r:embed="rId7"/>
            <a:srcRect l="19081" t="0" r="26926" b="10912"/>
            <a:stretch/>
          </p:blipFill>
          <p:spPr>
            <a:xfrm>
              <a:off x="5940360" y="0"/>
              <a:ext cx="244800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8"/>
            <a:srcRect l="17764" t="0" r="21979" b="12358"/>
            <a:stretch/>
          </p:blipFill>
          <p:spPr>
            <a:xfrm>
              <a:off x="6588000" y="747720"/>
              <a:ext cx="79236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"/>
          <p:cNvSpPr/>
          <p:nvPr/>
        </p:nvSpPr>
        <p:spPr>
          <a:xfrm>
            <a:off x="7524720" y="2060640"/>
            <a:ext cx="122400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95280" y="1197000"/>
            <a:ext cx="2919600" cy="3889440"/>
            <a:chOff x="395280" y="1197000"/>
            <a:chExt cx="2919600" cy="3889440"/>
          </a:xfrm>
        </p:grpSpPr>
        <p:grpSp>
          <p:nvGrpSpPr>
            <p:cNvPr id="102" name=""/>
            <p:cNvGrpSpPr/>
            <p:nvPr/>
          </p:nvGrpSpPr>
          <p:grpSpPr>
            <a:xfrm>
              <a:off x="395280" y="1197000"/>
              <a:ext cx="2919600" cy="3889440"/>
              <a:chOff x="395280" y="1197000"/>
              <a:chExt cx="2919600" cy="3889440"/>
            </a:xfrm>
          </p:grpSpPr>
          <p:pic>
            <p:nvPicPr>
              <p:cNvPr id="103" name="" descr=""/>
              <p:cNvPicPr/>
              <p:nvPr/>
            </p:nvPicPr>
            <p:blipFill>
              <a:blip r:embed="rId9"/>
              <a:srcRect l="0" t="23113" r="9055" b="1731"/>
              <a:stretch/>
            </p:blipFill>
            <p:spPr>
              <a:xfrm>
                <a:off x="395280" y="1989000"/>
                <a:ext cx="2919600" cy="309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763640" y="1197000"/>
                <a:ext cx="1158840" cy="1544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>
              <a:off x="1332000" y="3357720"/>
              <a:ext cx="1295280" cy="1079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492360" y="476280"/>
            <a:ext cx="3024360" cy="936720"/>
          </a:xfrm>
          <a:prstGeom prst="wedgeEllipseCallout">
            <a:avLst>
              <a:gd name="adj1" fmla="val 64486"/>
              <a:gd name="adj2" fmla="val 4847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ny!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00720" y="2060640"/>
            <a:ext cx="118764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2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0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1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0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564000" y="1773360"/>
            <a:ext cx="201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564000" y="1773360"/>
            <a:ext cx="201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564000" y="1773360"/>
            <a:ext cx="201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564000" y="1773360"/>
            <a:ext cx="201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>
            <a:lum bright="-24000"/>
          </a:blip>
          <a:srcRect l="32127" t="9936" r="20627" b="40472"/>
          <a:stretch/>
        </p:blipFill>
        <p:spPr>
          <a:xfrm>
            <a:off x="4356000" y="1484280"/>
            <a:ext cx="1027080" cy="1438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>
            <a:lum bright="-12000"/>
          </a:blip>
          <a:srcRect l="0" t="28577" r="0" b="0"/>
          <a:stretch/>
        </p:blipFill>
        <p:spPr>
          <a:xfrm>
            <a:off x="0" y="4221000"/>
            <a:ext cx="9144000" cy="2880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140360" y="0"/>
            <a:ext cx="1341360" cy="1557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780000" y="2708280"/>
            <a:ext cx="2160360" cy="161928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7451640" y="907920"/>
            <a:ext cx="2148480" cy="3934800"/>
            <a:chOff x="7451640" y="907920"/>
            <a:chExt cx="2148480" cy="3934800"/>
          </a:xfrm>
        </p:grpSpPr>
        <p:grpSp>
          <p:nvGrpSpPr>
            <p:cNvPr id="113" name=""/>
            <p:cNvGrpSpPr/>
            <p:nvPr/>
          </p:nvGrpSpPr>
          <p:grpSpPr>
            <a:xfrm>
              <a:off x="7451640" y="979200"/>
              <a:ext cx="2148480" cy="3863520"/>
              <a:chOff x="7451640" y="979200"/>
              <a:chExt cx="2148480" cy="3863520"/>
            </a:xfrm>
          </p:grpSpPr>
          <p:pic>
            <p:nvPicPr>
              <p:cNvPr id="114" name="" descr=""/>
              <p:cNvPicPr/>
              <p:nvPr/>
            </p:nvPicPr>
            <p:blipFill>
              <a:blip r:embed="rId5">
                <a:lum bright="-6000"/>
              </a:blip>
              <a:srcRect l="0" t="0" r="40702" b="-44"/>
              <a:stretch/>
            </p:blipFill>
            <p:spPr>
              <a:xfrm>
                <a:off x="7451640" y="979200"/>
                <a:ext cx="1842120" cy="359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 rot="21082200">
                <a:off x="8874720" y="3454920"/>
                <a:ext cx="627840" cy="1347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6" name="" descr=""/>
            <p:cNvPicPr/>
            <p:nvPr/>
          </p:nvPicPr>
          <p:blipFill>
            <a:blip r:embed="rId6"/>
            <a:srcRect l="11817" t="0" r="10763" b="11693"/>
            <a:stretch/>
          </p:blipFill>
          <p:spPr>
            <a:xfrm>
              <a:off x="8099640" y="907920"/>
              <a:ext cx="936360" cy="71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" descr=""/>
          <p:cNvPicPr/>
          <p:nvPr/>
        </p:nvPicPr>
        <p:blipFill>
          <a:blip r:embed="rId7"/>
          <a:srcRect l="19081" t="8501" r="26926" b="10912"/>
          <a:stretch/>
        </p:blipFill>
        <p:spPr>
          <a:xfrm>
            <a:off x="5940360" y="0"/>
            <a:ext cx="2448000" cy="504036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755640" y="476280"/>
            <a:ext cx="2376360" cy="5761080"/>
            <a:chOff x="755640" y="476280"/>
            <a:chExt cx="2376360" cy="5761080"/>
          </a:xfrm>
        </p:grpSpPr>
        <p:pic>
          <p:nvPicPr>
            <p:cNvPr id="119" name="" descr=""/>
            <p:cNvPicPr/>
            <p:nvPr/>
          </p:nvPicPr>
          <p:blipFill>
            <a:blip r:embed="rId8"/>
            <a:srcRect l="8638" t="36009" r="49927" b="0"/>
            <a:stretch/>
          </p:blipFill>
          <p:spPr>
            <a:xfrm>
              <a:off x="755640" y="2781360"/>
              <a:ext cx="2016000" cy="34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9"/>
            <a:stretch/>
          </p:blipFill>
          <p:spPr>
            <a:xfrm>
              <a:off x="1476360" y="476280"/>
              <a:ext cx="1655640" cy="28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547640" y="2997360"/>
              <a:ext cx="1295640" cy="1008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Z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7667640" y="2349360"/>
            <a:ext cx="122400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443640" y="189000"/>
            <a:ext cx="1187640" cy="3240000"/>
            <a:chOff x="6443640" y="189000"/>
            <a:chExt cx="1187640" cy="3240000"/>
          </a:xfrm>
        </p:grpSpPr>
        <p:pic>
          <p:nvPicPr>
            <p:cNvPr id="124" name="" descr=""/>
            <p:cNvPicPr/>
            <p:nvPr/>
          </p:nvPicPr>
          <p:blipFill>
            <a:blip r:embed="rId10"/>
            <a:srcRect l="17764" t="0" r="21979" b="12358"/>
            <a:stretch/>
          </p:blipFill>
          <p:spPr>
            <a:xfrm>
              <a:off x="6588000" y="747720"/>
              <a:ext cx="79236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443640" y="2349360"/>
              <a:ext cx="1187640" cy="1079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1"/>
            <a:srcRect l="20721" t="0" r="31341" b="28473"/>
            <a:stretch/>
          </p:blipFill>
          <p:spPr>
            <a:xfrm>
              <a:off x="6443640" y="189000"/>
              <a:ext cx="112068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"/>
          <p:cNvSpPr/>
          <p:nvPr/>
        </p:nvSpPr>
        <p:spPr>
          <a:xfrm>
            <a:off x="6659640" y="0"/>
            <a:ext cx="1584360" cy="1197000"/>
          </a:xfrm>
          <a:prstGeom prst="wedgeEllipseCallout">
            <a:avLst>
              <a:gd name="adj1" fmla="val 68939"/>
              <a:gd name="adj2" fmla="val 7002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ay you need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1268280"/>
            <a:ext cx="1800000" cy="1081080"/>
          </a:xfrm>
          <a:prstGeom prst="wedgeEllipseCallout">
            <a:avLst>
              <a:gd name="adj1" fmla="val 85097"/>
              <a:gd name="adj2" fmla="val -3869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an you leave 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6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7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94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5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03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4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5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87283E-006 L 0.16944 -0.0733 E">
                                      <p:cBhvr>
                                        <p:cTn id="22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960720" cy="3949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>
            <a:lum bright="-12000"/>
          </a:blip>
          <a:srcRect l="0" t="28577" r="0" b="0"/>
          <a:stretch/>
        </p:blipFill>
        <p:spPr>
          <a:xfrm>
            <a:off x="0" y="4221000"/>
            <a:ext cx="9144000" cy="2880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140360" y="0"/>
            <a:ext cx="1341360" cy="1557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524720" y="2060640"/>
            <a:ext cx="122400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2060640"/>
            <a:ext cx="118764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772320" y="476280"/>
            <a:ext cx="2371680" cy="384948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5724360" y="0"/>
            <a:ext cx="2448000" cy="5040360"/>
            <a:chOff x="5724360" y="0"/>
            <a:chExt cx="2448000" cy="5040360"/>
          </a:xfrm>
        </p:grpSpPr>
        <p:pic>
          <p:nvPicPr>
            <p:cNvPr id="136" name="" descr=""/>
            <p:cNvPicPr/>
            <p:nvPr/>
          </p:nvPicPr>
          <p:blipFill>
            <a:blip r:embed="rId5"/>
            <a:srcRect l="19081" t="0" r="26926" b="10912"/>
            <a:stretch/>
          </p:blipFill>
          <p:spPr>
            <a:xfrm>
              <a:off x="5724360" y="0"/>
              <a:ext cx="244800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6"/>
            <a:srcRect l="17764" t="0" r="21979" b="12358"/>
            <a:stretch/>
          </p:blipFill>
          <p:spPr>
            <a:xfrm>
              <a:off x="6372000" y="747720"/>
              <a:ext cx="792360" cy="86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"/>
          <p:cNvGrpSpPr/>
          <p:nvPr/>
        </p:nvGrpSpPr>
        <p:grpSpPr>
          <a:xfrm>
            <a:off x="6659640" y="3213000"/>
            <a:ext cx="2148120" cy="3934800"/>
            <a:chOff x="6659640" y="3213000"/>
            <a:chExt cx="2148120" cy="3934800"/>
          </a:xfrm>
        </p:grpSpPr>
        <p:grpSp>
          <p:nvGrpSpPr>
            <p:cNvPr id="139" name=""/>
            <p:cNvGrpSpPr/>
            <p:nvPr/>
          </p:nvGrpSpPr>
          <p:grpSpPr>
            <a:xfrm>
              <a:off x="6659640" y="3284280"/>
              <a:ext cx="2148120" cy="3863520"/>
              <a:chOff x="6659640" y="3284280"/>
              <a:chExt cx="2148120" cy="3863520"/>
            </a:xfrm>
          </p:grpSpPr>
          <p:pic>
            <p:nvPicPr>
              <p:cNvPr id="140" name="" descr=""/>
              <p:cNvPicPr/>
              <p:nvPr/>
            </p:nvPicPr>
            <p:blipFill>
              <a:blip r:embed="rId7">
                <a:lum bright="-6000"/>
              </a:blip>
              <a:srcRect l="0" t="0" r="40702" b="-44"/>
              <a:stretch/>
            </p:blipFill>
            <p:spPr>
              <a:xfrm>
                <a:off x="6659640" y="3284280"/>
                <a:ext cx="1841760" cy="359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 rot="21082200">
                <a:off x="8082360" y="5760000"/>
                <a:ext cx="627840" cy="1347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2" name="" descr=""/>
            <p:cNvPicPr/>
            <p:nvPr/>
          </p:nvPicPr>
          <p:blipFill>
            <a:blip r:embed="rId8"/>
            <a:srcRect l="11817" t="0" r="10763" b="11693"/>
            <a:stretch/>
          </p:blipFill>
          <p:spPr>
            <a:xfrm>
              <a:off x="7307280" y="3213000"/>
              <a:ext cx="936000" cy="71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" name="" descr=""/>
          <p:cNvPicPr/>
          <p:nvPr/>
        </p:nvPicPr>
        <p:blipFill>
          <a:blip r:embed="rId9"/>
          <a:srcRect l="0" t="0" r="26527" b="0"/>
          <a:stretch/>
        </p:blipFill>
        <p:spPr>
          <a:xfrm>
            <a:off x="-2413080" y="981000"/>
            <a:ext cx="3816360" cy="5194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"/>
          <a:srcRect l="11282" t="0" r="43592" b="0"/>
          <a:stretch/>
        </p:blipFill>
        <p:spPr>
          <a:xfrm>
            <a:off x="1258920" y="1125360"/>
            <a:ext cx="1727280" cy="382752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1258920" y="2852640"/>
            <a:ext cx="3216240" cy="4248360"/>
            <a:chOff x="1258920" y="2852640"/>
            <a:chExt cx="3216240" cy="4248360"/>
          </a:xfrm>
        </p:grpSpPr>
        <p:pic>
          <p:nvPicPr>
            <p:cNvPr id="146" name="" descr=""/>
            <p:cNvPicPr/>
            <p:nvPr/>
          </p:nvPicPr>
          <p:blipFill>
            <a:blip r:embed="rId11"/>
            <a:stretch/>
          </p:blipFill>
          <p:spPr>
            <a:xfrm>
              <a:off x="1258920" y="2970360"/>
              <a:ext cx="3216240" cy="413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12"/>
            <a:stretch/>
          </p:blipFill>
          <p:spPr>
            <a:xfrm>
              <a:off x="2556000" y="2852640"/>
              <a:ext cx="1428480" cy="190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3780000" y="1557360"/>
            <a:ext cx="2447640" cy="5040360"/>
            <a:chOff x="3780000" y="1557360"/>
            <a:chExt cx="2447640" cy="5040360"/>
          </a:xfrm>
        </p:grpSpPr>
        <p:pic>
          <p:nvPicPr>
            <p:cNvPr id="149" name="" descr=""/>
            <p:cNvPicPr/>
            <p:nvPr/>
          </p:nvPicPr>
          <p:blipFill>
            <a:blip r:embed="rId13">
              <a:lum bright="-24000"/>
            </a:blip>
            <a:srcRect l="32127" t="9936" r="20627" b="40472"/>
            <a:stretch/>
          </p:blipFill>
          <p:spPr>
            <a:xfrm>
              <a:off x="4356000" y="1557360"/>
              <a:ext cx="1027080" cy="14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14"/>
            <a:stretch/>
          </p:blipFill>
          <p:spPr>
            <a:xfrm>
              <a:off x="3780000" y="2781360"/>
              <a:ext cx="216036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5"/>
            <a:srcRect l="19081" t="8501" r="26926" b="10912"/>
            <a:stretch/>
          </p:blipFill>
          <p:spPr>
            <a:xfrm>
              <a:off x="3780000" y="1557360"/>
              <a:ext cx="2447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16"/>
            <a:srcRect l="20721" t="0" r="31341" b="28473"/>
            <a:stretch/>
          </p:blipFill>
          <p:spPr>
            <a:xfrm>
              <a:off x="4356000" y="1630440"/>
              <a:ext cx="1121040" cy="1654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9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0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8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9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56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7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8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0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1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2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6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7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5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6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isco Displac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341360"/>
          <a:ext cx="8064720" cy="5289480"/>
        </p:xfrm>
        <a:graphic>
          <a:graphicData uri="http://schemas.openxmlformats.org/drawingml/2006/table">
            <a:tbl>
              <a:tblPr/>
              <a:tblGrid>
                <a:gridCol w="1613160"/>
                <a:gridCol w="806400"/>
                <a:gridCol w="1753920"/>
                <a:gridCol w="663840"/>
                <a:gridCol w="1241280"/>
                <a:gridCol w="554040"/>
                <a:gridCol w="1432080"/>
              </a:tblGrid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es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 sulp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es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n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n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41360" cy="1557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341360" cy="1557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547640" y="69228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the symbol and the word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isco Displac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68360" y="968400"/>
          <a:ext cx="8353440" cy="5995800"/>
        </p:xfrm>
        <a:graphic>
          <a:graphicData uri="http://schemas.openxmlformats.org/drawingml/2006/table">
            <a:tbl>
              <a:tblPr/>
              <a:tblGrid>
                <a:gridCol w="1671480"/>
                <a:gridCol w="835200"/>
                <a:gridCol w="1817640"/>
                <a:gridCol w="685800"/>
                <a:gridCol w="1547640"/>
                <a:gridCol w="546120"/>
                <a:gridCol w="1249560"/>
              </a:tblGrid>
              <a:tr h="13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es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 sulp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esium sulp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es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nc sulp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esium sulp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n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n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 sulp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nc sulp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 sulp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n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0240" cy="1079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093160" y="0"/>
            <a:ext cx="844560" cy="981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435640" y="981000"/>
            <a:ext cx="3384360" cy="13683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35640" y="2349360"/>
            <a:ext cx="3384360" cy="14400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35640" y="4869000"/>
            <a:ext cx="3384360" cy="1081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35640" y="3789360"/>
            <a:ext cx="3384360" cy="11523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35640" y="5850000"/>
            <a:ext cx="3384360" cy="10080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2:37:52Z</dcterms:created>
  <dc:creator>User</dc:creator>
  <dc:description/>
  <dc:language>en-US</dc:language>
  <cp:lastModifiedBy>dsalter</cp:lastModifiedBy>
  <dcterms:modified xsi:type="dcterms:W3CDTF">2007-10-31T14:00:56Z</dcterms:modified>
  <cp:revision>17</cp:revision>
  <dc:subject/>
  <dc:title>Slide 1</dc:title>
</cp:coreProperties>
</file>